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212-13D6-4F49-BF29-365CD084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F6E-4C38-4905-8E25-D357F026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F65-820C-4540-B32F-95E9C910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468-3FD9-48D8-81EC-62BD3CC5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5DC-6346-41AD-BF10-083C7200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44C-6DE3-4353-9475-CD39BFFD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0BF-CD18-4C79-BE30-64B4B0C3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191-149B-4770-AA96-F033F7D4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2E18-F395-4B9E-8E37-FF273864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63B-457A-4295-BB2C-41BA438E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1E6-F6D1-4586-94BA-3E1D2966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BD6-81C0-46B8-A7C4-131EFBF0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B9AC3-9C85-4445-ABDB-D9BE750EB2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  <a:ea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  <a:ea typeface="等线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-25560"/>
            <a:ext cx="12192120" cy="69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  <a:ea typeface="等线 Light"/>
            </a:endParaRPr>
          </a:p>
        </p:txBody>
      </p:sp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Think</dc:creator>
  <dc:description/>
  <dc:language>en-US</dc:language>
  <cp:lastModifiedBy>my</cp:lastModifiedBy>
  <dcterms:modified xsi:type="dcterms:W3CDTF">2023-03-14T06:40:5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